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EE2-3A4F-417F-8AFF-0083D62C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EE02-2596-465B-8789-63F8969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E69-E0E9-4A7D-B3D5-1F2F40C3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184-3511-4D1C-BC63-7B8059B9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B4BF-2DB5-46CB-82B9-5E41B4955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7C84-EA95-4B69-B197-168E243E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C410-5C11-49F1-9A21-BFDD6493E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B72-822D-45AB-A3CE-8CA68E75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1F06-B846-4BB0-BEAC-4D7854CC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2F0-8026-4685-9CF9-12766F48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DA46-AE1D-4545-B09B-CADF542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D37-483F-421F-8447-55557A4D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0FB9-1B85-4726-BD7C-070DF48A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8D91-FBC1-4E90-92B4-6BA5717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815A-8F86-4B12-B392-D40E0A885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A532-00CD-4B80-866F-B07939D6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5065-B661-407F-A222-4FFE3896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07E-42D7-46CA-879E-65C40937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8BB-AE04-4E8B-8179-E4422319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653-11CA-44B7-842C-AC648248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B2E4-46D9-4BEC-A6AB-0ABDC3CE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49A-5E4A-4885-A3C8-AC63580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FD7-14AB-4130-AA87-62004FE1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805-C5C2-4967-8D3C-3A55F376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0DA0-5263-47B1-8375-EBA0B8D421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15EF1-A642-46DB-B808-7BEB7EDE54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alvin.stemnet.nf.ca/-acrawfor/lrc2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Workshop Overview</a:t>
            </a:r>
            <a:br>
              <a:rPr sz="62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ed by: Eddelyn D. Gupet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eb-Enhanced Learning Activitie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n Instructional Design workshop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Pilipinas SchoolNe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dapted from: Patricia B. Arint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iversity of the Philippines – Open Univers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roves research skills and fosters self-confidence in finding information by integrating library skills as part of subject curriculum (Nolan, 1989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reases academic achievement in subject content, attitudes, and critical thinking through use of variety of resources in learning (Barrilleaux, 198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mproves work study skills and vocabulary in the case of multi-media programmes (DeBlauw, 1973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ents – active learners as they use a wide range of materials to investigate subject material prescribed within their classroom curriculu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achers &amp; librarians – motivators and facilitators in the learning proce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d result – a “learning culture”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arning/Teaching in which students develop knowledge, skills and understanding by using a wide variety of print, non-print, and human resourc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ource: Saskatchewan Educ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chieves both subject and information literacy objectives through exposure to and practice with diverse resources (e.g., books, journals, newspapers, multimedia, Web, community, peopl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ource: Stauffer Library, Queen’s Univers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o provide the opportunity for all students to develop independent learning skills, in conjunction with the acquisition of a basic body of knowledge which will enable them to become life-long learner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Source: STEM Net </a:t>
            </a:r>
            <a:r>
              <a:rPr b="0" lang="en-US" sz="16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http://calvin.stemnet.nf.ca/-acrawfor/lrc2.html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ssential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wide variety of resources is us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arning experiences are planned based on instructional objectiv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Learning strategies and skills are identified and taught within the context of relevant and meaningful units of stud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apted to different learning styles and subject area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ssential Featu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tudents actively participate in their learn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eachers act as facilitators of learning, continuously guiding, monitoring, and evaluat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motes student autonomy: students, not teachers, work with resources to learn about topic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ows time for information gathering and reflection which in turn promotes deep learning (MacFariane, 1992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courages in-depth focus on a topic which drives students to seek more relevant information and produce a product of higher quality (Kulthau, 1993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ables the construction of meaning through active participation with information resources (Kulthau, 1993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romotes acquisition of efective information skills through conceptual awareness of the nature of information and its diversity (Cleaver, 1986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romotes the development of thinking skills such as problem solving, reasoning, and critical evaluation through information handling and independent research (Resnik, 1987: Todd &amp; MsNicholas,1994/9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llows for information gathering as a continuous process rather than unconnected tasks, thereby encouraging the construction of knowledge at every subsequent phase (Moore, 1995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nects information handling and use with subject matter (Pitts, 1994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ows for the active construction of personal understanding using reflection and self-assessment so information is given a context, mental model, or framework (Stripling, 1995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1:53:22Z</dcterms:created>
  <dc:creator>Student's</dc:creator>
  <dc:description/>
  <dc:language>en-US</dc:language>
  <cp:lastModifiedBy>Student's</cp:lastModifiedBy>
  <dcterms:modified xsi:type="dcterms:W3CDTF">2011-01-06T02:25:25Z</dcterms:modified>
  <cp:revision>3</cp:revision>
  <dc:subject/>
  <dc:title>Workshop Overview</dc:title>
</cp:coreProperties>
</file>